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B357A-3D2E-4C05-9012-0B0F6DE3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6221F-0567-4240-B2A2-B011BBC9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50F34-3F57-4387-AF9E-4EFD629D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39FF-963E-420F-BE0D-EB3DBE41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1F11-D532-4CFD-9581-DA3ADCE3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8F55-967E-462F-8306-BBE8716F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5D54-4646-4531-9C39-507E9FCC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9917-CDFE-4DB7-9F03-0256C02E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F15D-21C3-410E-AF2C-A15F90ED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6B98-05F7-4046-93F2-37AA1A24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CCAA-0A23-4CB8-9D6D-FD8C8DE9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8163-61FD-4107-8F31-C18C0DAE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99D9-064C-4EE5-B7D6-5D0ABE4E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3576-7E8E-4E80-B581-19CAD8C0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257F-61AF-4575-850A-165BE2DA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043D-BB80-4F6C-8313-ADBCFB3E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69B9-1F29-48D6-84A6-7D88FDB0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129CA-1845-41E7-A94A-E8C0AD2E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4AC6-5F79-4923-8D5D-AFD9E280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70EB-1910-49F5-877F-FA4135B0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E6CD-ABF0-4091-B493-541F73AF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F832E-B6F2-4D5C-9548-101D0BF9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FEA78-0E28-4419-9A2F-803A50A9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DD5E-7864-474C-8E98-E9D7601C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6B52-B316-4428-BDA3-5BAF83BA2AB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701B-B185-44D7-BD9C-96C69A6703A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451160"/>
            <a:ext cx="112791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4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5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Радостни са днеска нашите сърца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вободни от земни грижи, суети;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в тоз ден се събират Божиите деца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за да хвалят Бога с песни си свят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07324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Не камбанения сладък, хубав звън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егли ни при Бога, привлича ни тук -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до нас, що се молим пред Божия трон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от небе достига Божи дивен звук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91080" y="1199160"/>
            <a:ext cx="89942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бравете днес вий земнит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иж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земете от Духа Божи благодат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секи при Бога да се приближ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ози ден пок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вси дни най-свя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1880" y="1655280"/>
            <a:ext cx="87930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Всички днес дойдете с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радостни сърца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от близ и далеко по световний шар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овдигнете горе вашите лица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и служете вярно на всевишний Цар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1-15T07:36:05Z</dcterms:modified>
  <cp:revision>22</cp:revision>
  <dc:subject/>
  <dc:title>Slide 1</dc:title>
</cp:coreProperties>
</file>